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DDF-201F-4A1B-AF3F-C549AB72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B37-E7D5-45CB-A1DE-29C5D4DB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F56-31D5-4AF2-808D-F0018A4C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7E3-1AA0-4190-AB55-CB9F7FEF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A73E-4FE7-4862-87A0-217083E5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267D-BD86-427B-A8B0-6932893D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2F33-866C-45B4-A575-225B2D9E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96A4-DB4C-4507-821C-586379D2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F0AC-B1DA-49C6-A5BB-532E0754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8F1C-1690-490E-9BFE-D347EB8F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1E15-CF07-42D5-8E7E-527473A0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143-A3B2-4360-A0E3-89FE6238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4E1C-D90B-41CA-8CF0-39740144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A9C5-6DA9-4FDE-8C83-41F8E2FA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F174-EC3F-4AA4-AB65-72D80EB6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01AF-83C4-45A9-B5A5-EC50F3CD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DE21-4CB5-4B42-91A7-D4D0D050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E81-4518-4E88-9EE1-D70ECAE8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3FD-5944-4032-8722-0E6653E2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DCA-9761-412B-A5A8-90DC73A9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697-1029-46C7-A388-54864AB5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883-DFCD-4B18-891D-7B68BCFC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1FD-727A-484C-9EC1-62FD47FC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4A4-E9C4-46E6-B1C1-3C545DA1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6E11-25B1-4ED4-B0D2-6FB6BB9DC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5765-B340-4FE4-8F45-F1FB4DA128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1280" y="1052280"/>
            <a:ext cx="583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400" spc="-1" strike="noStrike">
                <a:solidFill>
                  <a:srgbClr val="ff0000"/>
                </a:solidFill>
                <a:latin typeface="KZ Cooper"/>
              </a:rPr>
              <a:t>Әлсіз буы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68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2060"/>
                </a:solidFill>
                <a:latin typeface="KZ Vivaldi"/>
              </a:rPr>
              <a:t>зияткерлік сайы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Көмірлі қала - .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ff0000"/>
                </a:solidFill>
                <a:latin typeface="KZ Boyarsky"/>
              </a:rPr>
              <a:t>2-кезең </a:t>
            </a:r>
            <a:br>
              <a:rPr sz="6600"/>
            </a:br>
            <a:r>
              <a:rPr b="1" lang="kk-KZ" sz="6600" spc="-1" strike="noStrike">
                <a:solidFill>
                  <a:srgbClr val="ff0000"/>
                </a:solidFill>
                <a:latin typeface="KZ Boyarsky"/>
              </a:rPr>
              <a:t>«</a:t>
            </a:r>
            <a:r>
              <a:rPr b="0" lang="kk-KZ" sz="6600" spc="-1" strike="noStrike">
                <a:solidFill>
                  <a:srgbClr val="ff0000"/>
                </a:solidFill>
                <a:latin typeface="KZ Boyarsky"/>
              </a:rPr>
              <a:t>Жұмбақ </a:t>
            </a:r>
            <a:br>
              <a:rPr sz="6600"/>
            </a:br>
            <a:r>
              <a:rPr b="0" lang="kk-KZ" sz="6600" spc="-1" strike="noStrike">
                <a:solidFill>
                  <a:srgbClr val="ff0000"/>
                </a:solidFill>
                <a:latin typeface="KZ Boyarsky"/>
              </a:rPr>
              <a:t>сандық»</a:t>
            </a:r>
            <a:r>
              <a:rPr b="1" lang="kk-KZ" sz="6600" spc="-1" strike="noStrike">
                <a:solidFill>
                  <a:srgbClr val="ff0000"/>
                </a:solidFill>
                <a:latin typeface="KZ Boyarsky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116000" y="1484280"/>
          <a:ext cx="7343640" cy="4140360"/>
        </p:xfrm>
        <a:graphic>
          <a:graphicData uri="http://schemas.openxmlformats.org/drawingml/2006/table">
            <a:tbl>
              <a:tblPr/>
              <a:tblGrid>
                <a:gridCol w="3672000"/>
                <a:gridCol w="957240"/>
                <a:gridCol w="844560"/>
                <a:gridCol w="912600"/>
                <a:gridCol w="957240"/>
              </a:tblGrid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Қазақ тілі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8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1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үниетан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Әдебиеттік оқ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98" name="Прямоугольник 1"/>
          <p:cNvSpPr/>
          <p:nvPr/>
        </p:nvSpPr>
        <p:spPr>
          <a:xfrm>
            <a:off x="2916360" y="692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KZ Boyarsky"/>
              </a:rPr>
              <a:t>Жұмбақ санды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правляющая кнопка: в конец 1"/>
          <p:cNvSpPr/>
          <p:nvPr/>
        </p:nvSpPr>
        <p:spPr>
          <a:xfrm>
            <a:off x="1116000" y="5877000"/>
            <a:ext cx="1152360" cy="576360"/>
          </a:xfrm>
          <a:custGeom>
            <a:avLst/>
            <a:gdLst>
              <a:gd name="textAreaLeft" fmla="*/ 37080 w 1152360"/>
              <a:gd name="textAreaRight" fmla="*/ 1115280 w 115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25085" y="10800"/>
                </a:moveTo>
                <a:lnTo>
                  <a:pt x="14580" y="17806"/>
                </a:lnTo>
                <a:lnTo>
                  <a:pt x="14580" y="3794"/>
                </a:lnTo>
                <a:close/>
              </a:path>
              <a:path fill="darken" w="43173" h="21600">
                <a:moveTo>
                  <a:pt x="26931" y="3794"/>
                </a:moveTo>
                <a:lnTo>
                  <a:pt x="26931" y="17806"/>
                </a:lnTo>
                <a:lnTo>
                  <a:pt x="28593" y="17806"/>
                </a:lnTo>
                <a:lnTo>
                  <a:pt x="2859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KZ Times New Roman"/>
              </a:rPr>
              <a:t>Бала сөзіне дыбыстық талдау жас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Управляющая кнопка: домой 2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KZ Times New Roman"/>
              </a:rPr>
              <a:t>3,5,8 сандарын реттік сан есімге айналды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70c0"/>
                </a:solidFill>
                <a:latin typeface="KZ Times New Roman"/>
              </a:rPr>
              <a:t>Зат есімнің ережесі, сұрақтары, мысал келті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KZ Times New Roman"/>
              </a:rPr>
              <a:t>Күрделі етістік қатыстырып сөйлем құрасты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 жүзд. 5бірліктен тұратын санды ат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42800" y="2205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50 –ден 100 бен 50-дің қосындысын азайт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Управляющая кнопка: домой 4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20+х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=</a:t>
            </a: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20-100 </a:t>
            </a:r>
            <a:br>
              <a:rPr sz="4400"/>
            </a:b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=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ff0000"/>
                </a:solidFill>
                <a:latin typeface="KZ Boyarsky"/>
              </a:rPr>
              <a:t>1-кезең </a:t>
            </a:r>
            <a:br>
              <a:rPr sz="6600"/>
            </a:br>
            <a:r>
              <a:rPr b="1" lang="kk-KZ" sz="6600" spc="-1" strike="noStrike">
                <a:solidFill>
                  <a:srgbClr val="ff0000"/>
                </a:solidFill>
                <a:latin typeface="KZ Boyarsky"/>
              </a:rPr>
              <a:t>Сергіту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2565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алманы үш ыдысқа тең бөліп сал. </a:t>
            </a:r>
            <a:br>
              <a:rPr sz="4400"/>
            </a:b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Әр ыдыста неше алмадан болад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рман емшісі </a:t>
            </a:r>
            <a:br>
              <a:rPr sz="4400"/>
            </a:b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талатын қандай құс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7640" y="2636640"/>
            <a:ext cx="56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сімдіктің өсіп-өнуі үшін не қаже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тустың Отаны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24000" y="227628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ексеуіл ағашының биіктігі мен тамырының ұзындығы  қанша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үй атасы - 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640" y="220464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Қазақ хрестоматиясы» кітабының автор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292392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йдадым жылқы қылып отыз түлкі,</a:t>
            </a:r>
            <a:br>
              <a:rPr sz="3200"/>
            </a:br>
            <a:r>
              <a:rPr b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орсықты ұстап мінсең, аттың мүлкі.</a:t>
            </a:r>
            <a:br>
              <a:rPr sz="3200"/>
            </a:br>
            <a:r>
              <a:rPr b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шінде топ адамның тулап жығып,</a:t>
            </a:r>
            <a:br>
              <a:rPr sz="3200"/>
            </a:br>
            <a:r>
              <a:rPr b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ылдың-ау, ойбай, қарсақ, жұртқа күлкі!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й өлеңнен үзінді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Ұлықпан хакімнің </a:t>
            </a:r>
            <a:br>
              <a:rPr sz="4400"/>
            </a:b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ті өсиетін ат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KZ Boyarsky"/>
              </a:rPr>
              <a:t>3-кезең </a:t>
            </a:r>
            <a:br>
              <a:rPr sz="4800"/>
            </a:br>
            <a:r>
              <a:rPr b="1" lang="kk-KZ" sz="4800" spc="-1" strike="noStrike">
                <a:solidFill>
                  <a:srgbClr val="ff0000"/>
                </a:solidFill>
                <a:latin typeface="KZ Boyarsky"/>
              </a:rPr>
              <a:t>«</a:t>
            </a:r>
            <a:r>
              <a:rPr b="0" lang="kk-KZ" sz="4800" spc="-1" strike="noStrike">
                <a:solidFill>
                  <a:srgbClr val="ff0000"/>
                </a:solidFill>
                <a:latin typeface="KZ Boyarsky"/>
              </a:rPr>
              <a:t>Жеті жұрттың </a:t>
            </a:r>
            <a:br>
              <a:rPr sz="4800"/>
            </a:br>
            <a:r>
              <a:rPr b="0" lang="kk-KZ" sz="4800" spc="-1" strike="noStrike">
                <a:solidFill>
                  <a:srgbClr val="ff0000"/>
                </a:solidFill>
                <a:latin typeface="KZ Boyarsky"/>
              </a:rPr>
              <a:t>тілін біл»</a:t>
            </a:r>
            <a:r>
              <a:rPr b="1" lang="kk-KZ" sz="4800" spc="-1" strike="noStrike">
                <a:solidFill>
                  <a:srgbClr val="ff0000"/>
                </a:solidFill>
                <a:latin typeface="KZ Boyarsky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Қазақ әліпбиінде </a:t>
            </a:r>
            <a:br>
              <a:rPr sz="6600"/>
            </a:b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неше әріп бар?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268360" y="206064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a11f6c"/>
                </a:solidFill>
                <a:latin typeface="Times New Roman"/>
                <a:ea typeface="Calibri"/>
              </a:rPr>
              <a:t>Қабат – қабат қаттама</a:t>
            </a:r>
            <a:br>
              <a:rPr sz="3600"/>
            </a:br>
            <a:r>
              <a:rPr b="1" lang="kk-KZ" sz="3600" spc="-1" strike="noStrike">
                <a:solidFill>
                  <a:srgbClr val="a11f6c"/>
                </a:solidFill>
                <a:latin typeface="Times New Roman"/>
                <a:ea typeface="Calibri"/>
              </a:rPr>
              <a:t>Ақылың болса аттам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ітап – книга - 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утболшының алаңдағы ойын заты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п – мяч - ba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үз теңгең болғанша,</a:t>
            </a:r>
            <a:br>
              <a:rPr sz="4400"/>
            </a:b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үз....... болсын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с – друг - frie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еті қазынаның бірі –</a:t>
            </a:r>
            <a:br>
              <a:rPr sz="4400"/>
            </a:b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дамды қорып жүретін дос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т – собака - d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33200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KZ Boyarsky"/>
              </a:rPr>
              <a:t>Сергіту сәт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Управляющая кнопка: фильм 6"/>
          <p:cNvSpPr/>
          <p:nvPr/>
        </p:nvSpPr>
        <p:spPr>
          <a:xfrm>
            <a:off x="4643280" y="2997360"/>
            <a:ext cx="803520" cy="647640"/>
          </a:xfrm>
          <a:custGeom>
            <a:avLst/>
            <a:gdLst>
              <a:gd name="textAreaLeft" fmla="*/ 41760 w 803520"/>
              <a:gd name="textAreaRight" fmla="*/ 761760 w 8035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796" h="21600">
                <a:moveTo>
                  <a:pt x="0" y="0"/>
                </a:moveTo>
                <a:lnTo>
                  <a:pt x="26796" y="0"/>
                </a:lnTo>
                <a:lnTo>
                  <a:pt x="26796" y="21600"/>
                </a:lnTo>
                <a:lnTo>
                  <a:pt x="0" y="21600"/>
                </a:lnTo>
                <a:close/>
              </a:path>
              <a:path fill="lightenLess" w="26796" h="21600">
                <a:moveTo>
                  <a:pt x="0" y="0"/>
                </a:moveTo>
                <a:lnTo>
                  <a:pt x="26796" y="0"/>
                </a:lnTo>
                <a:lnTo>
                  <a:pt x="25396" y="1400"/>
                </a:lnTo>
                <a:lnTo>
                  <a:pt x="1400" y="1400"/>
                </a:lnTo>
                <a:close/>
              </a:path>
              <a:path fill="darken" w="26796" h="21600">
                <a:moveTo>
                  <a:pt x="26796" y="0"/>
                </a:moveTo>
                <a:lnTo>
                  <a:pt x="26796" y="21600"/>
                </a:lnTo>
                <a:lnTo>
                  <a:pt x="25396" y="20200"/>
                </a:lnTo>
                <a:lnTo>
                  <a:pt x="25396" y="1400"/>
                </a:lnTo>
                <a:close/>
              </a:path>
              <a:path fill="darkenLess" w="26796" h="21600">
                <a:moveTo>
                  <a:pt x="2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96" y="20200"/>
                </a:lnTo>
                <a:close/>
              </a:path>
              <a:path fill="lighten" w="2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96" h="21600">
                <a:moveTo>
                  <a:pt x="6392" y="7301"/>
                </a:moveTo>
                <a:lnTo>
                  <a:pt x="7305" y="7301"/>
                </a:lnTo>
                <a:lnTo>
                  <a:pt x="7688" y="7667"/>
                </a:lnTo>
                <a:lnTo>
                  <a:pt x="16897" y="7667"/>
                </a:lnTo>
                <a:lnTo>
                  <a:pt x="17454" y="8224"/>
                </a:lnTo>
                <a:lnTo>
                  <a:pt x="17454" y="8772"/>
                </a:lnTo>
                <a:lnTo>
                  <a:pt x="19299" y="8772"/>
                </a:lnTo>
                <a:lnTo>
                  <a:pt x="19665" y="8224"/>
                </a:lnTo>
                <a:lnTo>
                  <a:pt x="20404" y="8224"/>
                </a:lnTo>
                <a:lnTo>
                  <a:pt x="20404" y="13376"/>
                </a:lnTo>
                <a:lnTo>
                  <a:pt x="19665" y="13376"/>
                </a:lnTo>
                <a:lnTo>
                  <a:pt x="19299" y="12828"/>
                </a:lnTo>
                <a:lnTo>
                  <a:pt x="17454" y="12828"/>
                </a:lnTo>
                <a:lnTo>
                  <a:pt x="17454" y="14107"/>
                </a:lnTo>
                <a:lnTo>
                  <a:pt x="7871" y="14107"/>
                </a:lnTo>
                <a:lnTo>
                  <a:pt x="7871" y="9877"/>
                </a:lnTo>
                <a:lnTo>
                  <a:pt x="7688" y="9877"/>
                </a:lnTo>
                <a:lnTo>
                  <a:pt x="7305" y="10243"/>
                </a:lnTo>
                <a:lnTo>
                  <a:pt x="6392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258920" y="189000"/>
            <a:ext cx="82296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KZ Boyarsky"/>
              </a:rPr>
              <a:t>4-кезең </a:t>
            </a:r>
            <a:br>
              <a:rPr sz="5400"/>
            </a:br>
            <a:r>
              <a:rPr b="1" lang="kk-KZ" sz="5400" spc="-1" strike="noStrike">
                <a:solidFill>
                  <a:srgbClr val="ff0000"/>
                </a:solidFill>
                <a:latin typeface="KZ Boyarsky"/>
              </a:rPr>
              <a:t>«</a:t>
            </a:r>
            <a:r>
              <a:rPr b="0" lang="kk-KZ" sz="5400" spc="-1" strike="noStrike">
                <a:solidFill>
                  <a:srgbClr val="ff0000"/>
                </a:solidFill>
                <a:latin typeface="KZ Boyarsky"/>
              </a:rPr>
              <a:t>Ойлан, тап!»</a:t>
            </a:r>
            <a:r>
              <a:rPr b="1" lang="kk-KZ" sz="5400" spc="-1" strike="noStrike">
                <a:solidFill>
                  <a:srgbClr val="ff0000"/>
                </a:solidFill>
                <a:latin typeface="KZ Boyarsky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Сурет пен сұлбаның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айырмашылығы?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KZ Jikharev"/>
              </a:rPr>
              <a:t>Бес бұтақты ағашта</a:t>
            </a:r>
            <a:br>
              <a:rPr sz="4400"/>
            </a:br>
            <a:r>
              <a:rPr b="1" lang="kk-KZ" sz="4400" spc="-1" strike="noStrike">
                <a:solidFill>
                  <a:srgbClr val="000000"/>
                </a:solidFill>
                <a:latin typeface="KZ Jikharev"/>
              </a:rPr>
              <a:t>    Бұтақ сайын бес алма.</a:t>
            </a:r>
            <a:br>
              <a:rPr sz="4400"/>
            </a:br>
            <a:r>
              <a:rPr b="1" lang="kk-KZ" sz="4400" spc="-1" strike="noStrike">
                <a:solidFill>
                  <a:srgbClr val="000000"/>
                </a:solidFill>
                <a:latin typeface="KZ Jikharev"/>
              </a:rPr>
              <a:t>    Біреуін бер алашқа</a:t>
            </a:r>
            <a:br>
              <a:rPr sz="4400"/>
            </a:br>
            <a:r>
              <a:rPr b="1" lang="kk-KZ" sz="4400" spc="-1" strike="noStrike">
                <a:solidFill>
                  <a:srgbClr val="000000"/>
                </a:solidFill>
                <a:latin typeface="KZ Jikharev"/>
              </a:rPr>
              <a:t>    Қалады сонда қанша алма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KZ Jikharev"/>
              </a:rPr>
              <a:t>Дорбадағы 10 асықты 10 бала бір-бірлеп алды. </a:t>
            </a: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Сонда 1 асық дорбада қалды. Бұл қалай? 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Түйе, бота маң басқан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    Төрт аяғын тең басқан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    Шұнақ құлақ бес ешкі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    Қос лақты, қос ешкі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    Төрт қозылы екі қой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    Бәрін бірге ойлап қой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Жеті үйрек ұшып бара жатыр. Аңшы екеуін атып түсірді. Неше үйрек қалд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1547640" y="836640"/>
            <a:ext cx="82296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KZ Boyarsky"/>
              </a:rPr>
              <a:t>5-кезең </a:t>
            </a:r>
            <a:br>
              <a:rPr sz="5400"/>
            </a:br>
            <a:r>
              <a:rPr b="1" lang="kk-KZ" sz="5400" spc="-1" strike="noStrike">
                <a:solidFill>
                  <a:srgbClr val="ff0000"/>
                </a:solidFill>
                <a:latin typeface="KZ Boyarsky"/>
              </a:rPr>
              <a:t>«</a:t>
            </a:r>
            <a:r>
              <a:rPr b="0" lang="kk-KZ" sz="5400" spc="-1" strike="noStrike">
                <a:solidFill>
                  <a:srgbClr val="ff0000"/>
                </a:solidFill>
                <a:latin typeface="KZ Boyarsky"/>
              </a:rPr>
              <a:t>Санның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0000"/>
                </a:solidFill>
                <a:latin typeface="KZ Boyarsky"/>
              </a:rPr>
              <a:t>сыр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Білекті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бірд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ығады, ,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Білекті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бірд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ығады, </a:t>
            </a:r>
            <a:br>
              <a:rPr sz="6000"/>
            </a:b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Білімді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мыңды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ығады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Ек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ақсы қас болмас,...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Ек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ақсы қас болмас,</a:t>
            </a:r>
            <a:br>
              <a:rPr sz="6000"/>
            </a:b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Ек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аман дос болмас.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Білгенің бір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тоғыз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,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Қазақтың </a:t>
            </a:r>
            <a:br>
              <a:rPr sz="6600"/>
            </a:b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ғарышкерлерін ата?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Білгенің бір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тоғыз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, </a:t>
            </a:r>
            <a:br>
              <a:rPr sz="6000"/>
            </a:b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Білмегенің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тоқсан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тоғыз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Жет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ұрттың тілін біл,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Жет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ұрттың тілін біл,</a:t>
            </a:r>
            <a:br>
              <a:rPr sz="6000"/>
            </a:b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Жет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түрлі білім біл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3"/>
          <p:cNvSpPr/>
          <p:nvPr/>
        </p:nvSpPr>
        <p:spPr>
          <a:xfrm>
            <a:off x="2093400" y="1125360"/>
            <a:ext cx="6548040" cy="13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ff0000"/>
                </a:solidFill>
                <a:uFillTx/>
                <a:latin typeface="KZ Vivaldi"/>
                <a:ea typeface="Times New Roman"/>
              </a:rPr>
              <a:t>Жеті</a:t>
            </a:r>
            <a:r>
              <a:rPr b="1" lang="kk-KZ" sz="4000" spc="-1" strike="noStrike">
                <a:solidFill>
                  <a:srgbClr val="ff0000"/>
                </a:solidFill>
                <a:latin typeface="KZ Vivaldi"/>
                <a:ea typeface="Times New Roman"/>
              </a:rPr>
              <a:t> жұрттың тілін біл,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ff0000"/>
                </a:solidFill>
                <a:uFillTx/>
                <a:latin typeface="KZ Vivaldi"/>
                <a:ea typeface="Times New Roman"/>
              </a:rPr>
              <a:t>жеті</a:t>
            </a:r>
            <a:r>
              <a:rPr b="1" lang="kk-KZ" sz="4000" spc="-1" strike="noStrike">
                <a:solidFill>
                  <a:srgbClr val="ff0000"/>
                </a:solidFill>
                <a:latin typeface="KZ Vivaldi"/>
                <a:ea typeface="Times New Roman"/>
              </a:rPr>
              <a:t> түрлі білім бі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Р қандай дыбыс? </a:t>
            </a: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Көкжиектің төрт тұсын айтып бер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Екі  тәулікте қанша сағат бар?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Екі  жылда </a:t>
            </a:r>
            <a:br>
              <a:rPr sz="6600"/>
            </a:b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неше ай бар?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Shalkar Uisipkhan</cp:lastModifiedBy>
  <dcterms:modified xsi:type="dcterms:W3CDTF">2017-04-19T01:18:04Z</dcterms:modified>
  <cp:revision>18</cp:revision>
  <dc:subject/>
  <dc:title>Слайд 1</dc:title>
</cp:coreProperties>
</file>